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EE6-09A7-4EC1-BA29-EDB0BD36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35E3-E35C-44CC-BF1F-1329563F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24C-A88D-42B6-8661-395B3E23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DCF-CD0A-40B6-9C90-F6C0402E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8CB2-C6B1-4085-B0B1-0BD93632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A737-5183-4824-BD91-E2C2E46C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A0B7-41DF-4606-B586-861A09B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15DB-E5B7-457D-9394-5AC38B2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DC8-C4A3-49DB-B225-364D75F8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7B2B-1027-4D8A-9E34-C92FD154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EE95-598B-4611-842B-9FD433D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160-4DB5-490C-A7B9-CBEF8CD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F743-FF3F-4F3E-9CBF-803BB32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C1D9-774D-45EF-983D-DB4252F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5EB7-C75E-4A99-AC8E-2C66347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50B9-B1B4-433C-845D-F3A1BF44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9132-1468-480C-8CB9-F208F2BC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21F-2842-4BAD-9132-1F43A1E8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80A-9053-492C-8C4C-BAEAA67C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566-4039-478B-AC8D-94256E1B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700-EE7C-4B7F-8710-6D03FE4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98E-A497-4CF6-90E7-5DA2A6C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5F6-6267-4766-9457-32377B0E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B78-3303-46CE-8632-1D94B63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C3F1-D2D5-4005-83A1-A4527D8D31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10620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10620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484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1160" y="14842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7080" y="1411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9540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2800" y="1744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2AE6-45EC-4217-8A39-7D75CDB2E0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19160" y="1905120"/>
            <a:ext cx="715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rtgage Ch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2720" y="3733920"/>
            <a:ext cx="715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oup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vid Bar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tthew Calla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k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nty Gand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m Jozefac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s Sh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ristin W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anagerial Defini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urchasing a home, there are many different mortgage options available. We want to develop a model that will assess the optimal type of mortgage to minimize the overall cash outlays over the term of the lo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e Model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rystal Ball simulation to determine the future interest rates to calculate future monthly payments for adjustable rate mortg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 mortgage and interest rates will be used to determine the historical means and standard devi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 - Inputs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chase Price of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Pay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 of Mortgage (mon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xed Interest Rates (15 and 30 y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 Margin and C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M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1 Year Treasury Bill St. Dev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Formulation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of Mortgage (Fixed v. 1, 3, 5, 7, 10 A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in interest rates for ARM’s from year to year and over the life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the total cash outlay over the term of the lo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actually measure this by the Internal Rate of Return (IRR) for each mortgage type (I.e. the mortgage with the lowest IRR is the cheapes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monthly pay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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mount of loan, mortgage type, interest r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= time in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2:22:43Z</dcterms:created>
  <dc:creator>sutanto</dc:creator>
  <dc:description/>
  <dc:language>en-US</dc:language>
  <cp:lastModifiedBy>Matthew T. Callahan</cp:lastModifiedBy>
  <cp:lastPrinted>1999-11-19T15:32:46Z</cp:lastPrinted>
  <dcterms:modified xsi:type="dcterms:W3CDTF">2002-04-30T18:12:31Z</dcterms:modified>
  <cp:revision>607</cp:revision>
  <dc:subject/>
  <dc:title>No Slide Title</dc:title>
</cp:coreProperties>
</file>